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5.png" ContentType="image/png"/>
  <Override PartName="/ppt/media/image2.jpeg" ContentType="image/jpeg"/>
  <Override PartName="/ppt/media/image16.wmf" ContentType="image/x-wmf"/>
  <Override PartName="/ppt/media/image8.png" ContentType="image/png"/>
  <Override PartName="/ppt/media/image5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12.png" ContentType="image/png"/>
  <Override PartName="/ppt/media/image4.gif" ContentType="image/gif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0EAD-82D1-420C-BC58-44E6006C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66A-1506-4E6A-BFCE-B8CCCA2C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A50-F829-4D51-AE29-AC675D0C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1B0-6FB8-4E1E-9832-2611CC28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5E749-DD4A-41F1-BC19-31A69539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54450-B681-4054-A11A-CA3F87A3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84B60-6B9D-4C10-B076-46C7FE92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4361A-6E2D-4ECD-9E64-0CA826AA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9D7C2-2348-4B70-883E-EC49456F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073E4-03E4-44FB-B30F-F279DA87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AD4FC-4938-4BFB-8389-7F32777A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D55-B9E3-44FB-BC68-86FFDE89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2F746-D554-46DE-B297-1E2C40E4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11644-4C91-4352-A705-17B95455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62C6F-FB76-4619-99FE-F2EAE617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5BF06-0BC1-4DDE-A418-8ACE782C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4757F-1480-424C-A3BF-0460F738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363-75A3-438C-89FC-0DACA19F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A9B-8C6F-42CA-906A-7C7A5CEA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6C4-4808-4FC2-A4CD-E129534D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A08-408F-4085-9315-15C96A78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795-49E5-4013-A5D8-325A6245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969-6F53-452C-8D9B-88F43610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3E7-2214-4592-99F0-237AF7A7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21A6-95FB-4344-A88C-9FFF023DF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89E0-57F0-43DB-9711-D81CBD62C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pter One:  New World Beginnin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Point Slides fo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American Pageant, 12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e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Constructed by Mr. Frec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umbian Exchange – animals &amp; dis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320" y="762120"/>
            <a:ext cx="8991360" cy="265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320" y="3713040"/>
            <a:ext cx="89913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ain sets up sho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boa reaches the Pacific via Panama (15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nce de Leon explores Florida in 1513 in search of the “Fountain of Youth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tes “conquers” the Aztec in 1521, destroys Tenochtitlan and erects Mexico 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zzaro “conquers” the Inca in 15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onado explores the American SW (1540-42) in search of the “Seven Cities of Go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oto explores the Gulf Coast (1539-154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04920" y="0"/>
            <a:ext cx="8839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S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52959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ologic Time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,000,000 years 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adian Shield rises above sea lev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5,000 years 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Bridge from Siberia to Alaska “open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5,000 – 17,000 years 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ration takes place over the land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,000 years 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Bridge from Siberia to Alaska “close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vis, NM and Monte Verde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19320" y="12600"/>
            <a:ext cx="6858000" cy="6845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819520" y="3962520"/>
            <a:ext cx="1371600" cy="1063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905120" y="1143000"/>
            <a:ext cx="10461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19920" y="87480"/>
            <a:ext cx="3047760" cy="2274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44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lam controls route 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ices, silk, &amp; tea introduced                 to Europe via the Crusades (1000 A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00 AD – Islam controls Middle East, Italy becomes middle man in t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tugal seeks “short cut” around Af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gins trade in gold and slaves with African states, slowly moves down the co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lam controls route Eas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0" t="8537" r="2393" b="1084"/>
          <a:stretch/>
        </p:blipFill>
        <p:spPr>
          <a:xfrm>
            <a:off x="2438280" y="646200"/>
            <a:ext cx="6553440" cy="6211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16200000">
            <a:off x="4207320" y="-4209120"/>
            <a:ext cx="72900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ile Portugal looks for a short-cu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2743200" cy="203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238880" y="4267080"/>
            <a:ext cx="19051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rtugal goes sai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nry the Navig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as reaches Cape of Good Hope in 14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 Gama reaches India via ship in 149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1114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ain’s Banner Year - 149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44197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lims are kicked out of Spain (Grena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 &amp; I are married, unifying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umbus sails and “discovers Americ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52280" y="291960"/>
            <a:ext cx="8839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Trans-Atlantic Explorations (1000-158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53416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umbian Exchange – food (old vs. new)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280" y="696960"/>
            <a:ext cx="883944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22:07:45Z</dcterms:created>
  <dc:creator>Brent J. Freccia</dc:creator>
  <dc:description/>
  <dc:language>en-US</dc:language>
  <cp:lastModifiedBy>Authorized User</cp:lastModifiedBy>
  <dcterms:modified xsi:type="dcterms:W3CDTF">2007-08-29T20:39:40Z</dcterms:modified>
  <cp:revision>3</cp:revision>
  <dc:subject/>
  <dc:title>Chapter One:  New World Beginnings</dc:title>
</cp:coreProperties>
</file>